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CEA-8F27-4B6C-861B-B2532AED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124-C059-477E-B95A-D481ACB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B55-E94F-491E-86ED-7B6FE4E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FE0-D18C-42AC-90C2-640D5E86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E72-46AB-4CEA-BD58-C8C8CA2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83C8-F240-47A9-A4F2-FB1DCF16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DEDA-7E88-46AC-8F01-20334FF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814D-7A54-43AA-856C-40356599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FE8-FD84-468B-B2CD-A80F129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891C-004D-44FF-9849-5CE4559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27FA-C43B-4D2B-89D5-58BA6C2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8F2-9F49-4183-8B17-39EBF583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30EF-0AD0-4E38-AE7D-75E6776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7698-8D82-4881-A175-C064EB4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5200-43D9-441D-90FE-D0EDA2CC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D062-43AC-4477-ADF4-399C4AEC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755-86AC-467E-ABAF-0113BDE0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943-5409-41E4-B536-C5865B60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A55-A2D0-4092-A270-E5D7030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6C9-44CD-4DB9-8AAB-641CFCB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5A6-354D-49E5-8143-E5E31F92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45E-C22E-4EB1-934D-01DE0D65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C21-40C6-4ABE-92C6-5751C04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520-D9FC-4E02-8522-D503FBA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4AA-287D-4DEC-BA23-862DCBFB3D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7FAF-1591-4023-B77E-0B9C2FC637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m/imgres?imgurl=http://www.bolduc.ca/images/editeur/warranty.jpg&amp;imgrefurl=http://www.bolduc.ca/warranty.aspx&amp;usg=__Zyxe1ng8OJxjP11y6p_dJI2SC_g=&amp;h=402&amp;w=412&amp;sz=115&amp;hl=en&amp;start=3&amp;tbnid=4sbh1LtD6dRQhM:&amp;tbnh=122&amp;tbnw=125&amp;prev=/images%3Fq%3Dwarranty%26gbv%3D2%26hl%3Den%26safe%3Dactive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9.03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alyze Home Maintenance Techniqu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ce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ing Electric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cause of electrical problem is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rt circu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is an undesirable current path that allows electrical current to bypass the load of the circu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rcuit Break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ivate when the circuit is overloaded.  The breaker switching               to the off position and interrupts the       pow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26120" y="4191120"/>
            <a:ext cx="190044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09680" y="515160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ll Switch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ar out as they                  get older.  Make sure you know                 how to work with electrical wiring                  before you attempt rep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wer cord plug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d or worn electric plugs must be replaced before using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72200" y="48006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38480" y="4419720"/>
            <a:ext cx="2743200" cy="685800"/>
          </a:xfrm>
          <a:prstGeom prst="line">
            <a:avLst/>
          </a:prstGeom>
          <a:ln w="9360">
            <a:solidFill>
              <a:srgbClr val="d73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4964040"/>
            <a:ext cx="3343320" cy="1708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38480" y="3962520"/>
            <a:ext cx="381240" cy="1600200"/>
          </a:xfrm>
          <a:prstGeom prst="line">
            <a:avLst/>
          </a:prstGeom>
          <a:ln w="9360">
            <a:solidFill>
              <a:srgbClr val="d73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761160" y="914400"/>
            <a:ext cx="2382840" cy="234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ather Stri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rip of material that covers the edges of a window or door to prevent moisture and air from entering  moisture and air from entering the hou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67280" y="3247920"/>
            <a:ext cx="2590920" cy="3610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9717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4184e"/>
                </a:solidFill>
                <a:latin typeface="Arial"/>
              </a:rPr>
              <a:t>Filters  for air conditioners should be changed every month so it will work more efficient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2610000" cy="2609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4120" y="3659040"/>
            <a:ext cx="3352680" cy="29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ranty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r’s written promise that a product will perform as described and the maker’s responsibilities concerning defective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arranty may be full or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28600"/>
            <a:ext cx="1676520" cy="16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81952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829040" y="1285920"/>
            <a:ext cx="431496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ll Warran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429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ritten agreement that allows a    consumer to have a broken    appliance    repaired or replaced free of charge (at the warrantor o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dvanced Foundation Repair offers lifetime&#10;transferrable warranties on its work.  Better yet,&#10;Advanced Foundation Repair is one of the few&#10;companies that backs its warranties with cash,&#10;not just a promise.&#10;&#10;Advanced Foundation Repair's work meets the high&#10;quality control standards of the Texas Foundation&#10;Warranty Trust.  This means that the Texas&#10;Foundation Warranty Trust backs every warranty&#10;issued by Advanced Foundation Repair.&#10;&#10;So, when Advanced Foundation Repair fixes your&#10;home, your warranty has the extra security of&#10;being backed by the Texas Foundation Warranty&#10;Trust."/>
          <p:cNvPicPr/>
          <p:nvPr/>
        </p:nvPicPr>
        <p:blipFill>
          <a:blip r:embed="rId2"/>
          <a:stretch/>
        </p:blipFill>
        <p:spPr>
          <a:xfrm>
            <a:off x="3124080" y="1828800"/>
            <a:ext cx="6019920" cy="47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imited Warrant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ritten agreement that obligates a warrantor to make no charge repairs in specific cases or replace the product under certain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be charged for repai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be responsible for shipping the item back to the warrantor or taking other steps to get repai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26708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ded Warran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 extra fee you can purchase addition years of coverage to the manufacturer’s warran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91120" y="1285920"/>
            <a:ext cx="4581360" cy="55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n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p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holst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ls/flo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rms continu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ther stri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pet Cleaning 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your carpet clean by vacuuming once or twice week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area rugs can be shaken to remove di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dark liquid spills on your carpet, blot it up quickly (white cloth) before it produces a stain. Don't scrub the stain (damages carpet fibers). Start at the outside of the stain and work inward to prevent the stain from spread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lean dry stains, spray the area with carpet cleaner and allow it to soak for 3 minutes. Then blot the area with a white cloth, and rinse the cloth often. After the area dries, vacuum it to remove residu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Repairing Nail Ho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putty knife and fill the nail holes with joint compound mixture or spackling compound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 the compound to dry completely. Sand the filled hole area with a fine grit sandpaper block. Sand the area flat and flush with the wal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int the repaired nail hole areas with the wall color or prim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 Plumb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ing leaking compression faucet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off water under s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slip-joint pliers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 the retaining nu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holds the stem in 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Slide new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-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pl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 screwdr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gui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886200" y="5181480"/>
            <a:ext cx="1778040" cy="13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gged drai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common cause is foreign matter – grease &amp; hair – they usually occur where two pipes are fitted together with a fitting, creating  a change of direction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eaning method is chemical drain cleaner available in liquid or crystals.  They are poisonous and caustic (burn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should be used only as dir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drain is completely clogged a flat plumbing plunger may need to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keep drains clog free pour boiling water down the drains twice a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38280" y="3627360"/>
            <a:ext cx="335304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.Tho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1:00:12Z</dcterms:created>
  <dc:creator> </dc:creator>
  <dc:description/>
  <dc:language>en-US</dc:language>
  <cp:lastModifiedBy>s.brooks</cp:lastModifiedBy>
  <dcterms:modified xsi:type="dcterms:W3CDTF">2009-05-15T18:02:27Z</dcterms:modified>
  <cp:revision>10</cp:revision>
  <dc:subject/>
  <dc:title>9.03 Analyze Home Maintenance Techniques</dc:title>
</cp:coreProperties>
</file>